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png" ContentType="image/pn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 type="sldNum" idx="1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5D56-F6AC-4185-B7B8-CF84C2F1D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02E5-FEB1-4E6A-A8F8-0817306F6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F0F5-8ACA-4766-8EE6-742882289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F47C-A359-493A-B062-8E11562265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646E-BBF3-4434-94AF-8C4DF1F13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A518-C0F8-49C5-8D1A-D01BB2922A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9512-E708-4BB3-9136-F967A8FEB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C084-892B-4E09-994C-CCCA55FB3C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6044-502A-4AD0-930E-4E61E7E5B6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47A5-3AC7-47C6-B206-9585D283D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9C49-14CF-4DD5-8B5D-A9503557D4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FE51-C553-40DE-8979-3BD97C0E3B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1FEF-4AC8-4041-AF60-EA06B3AC7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B804-FE66-407F-A4FA-925DB8A78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E2A7-FAF3-48FE-891C-38D56FEFF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8FC2-B3A4-4DE9-8D87-CF32D9F3E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5D75-66E1-494C-B0AE-5298D6B80A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02C8-3D02-4BF7-85E9-99FEFDB0D3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6263-F4DE-44AB-8614-F447B62AF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E85F-9E50-4A68-A283-96891A7D8D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B556-431F-4A7F-95EA-6698EAAD56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34D3-BE34-42A2-A2FF-75C9AEC6D3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799A-7F9D-40DC-82EE-7CD9AB29E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EB46-9ADA-4525-AB1A-4B208947E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each Building is a custom project – the BIM processes must be customized to fit the project and team 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9A03-9474-4151-AF43-5E6C0D3B97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B9A8-5AD4-4915-AAC9-F3A601DE33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erarching goal is to produce a standard document that can be incorporated into a Standard and disseminated through the buildingSMART Alli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AC4D-E6EE-4851-9BF1-5C50184746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5B52-4726-49F0-982C-A62B34926EA8}" type="slidenum">
              <a:rPr b="0" lang="en-US" sz="11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8C3D-20CA-4C09-AEA1-6603EA608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1D4D-1328-4EEC-89D3-B9579E507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75A4-0851-49AC-9283-3B29536B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FFF6-CA53-408C-B3BB-7C50B722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60DF-66DC-4509-AB33-E7C66959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6D86-02B4-4FE6-A199-F8ECE9904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3BB8-ED17-4376-A3EC-D6747B98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02CC-929D-4505-AF88-DD393DA4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9DA4-9BBA-415A-A671-BFF8A830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520F-4FAB-4879-A21E-8B6A7D3C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3132-2987-4611-8D56-18C9B922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A3B3-052E-440F-A1ED-4D8F5E13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FC9C-7A73-4CF0-9894-EBE9D728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94F8-1694-48CB-8CB6-C1259B22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A068-DB1C-4D37-9FC3-DD3DF9A9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EC66-E208-4276-B8F5-9A95EEC2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0D65-AA93-4F8F-B9DC-5449D470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C53C-0F94-46B1-A250-CA4C9E8E2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EF44-5A52-40B8-BD15-9FC34C7B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411E9-34ED-4966-9F86-C8C8FA1B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A1015-F8E8-4EBF-9DB1-9752B938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301BF-6D93-4587-8B78-ADB592AC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27EEA-CF64-40F5-A196-E3BDFB3A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BE2B4-3933-4F4D-8845-9B457B41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F697-7305-4C4E-9A0E-88FC4ED1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967DB-AF6D-4E97-A7ED-A13A55A4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8E136-A295-475E-8BD5-DF4772D3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7E8EC-E4FF-4CCC-A1F8-C3B99724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3E552-9AA9-4E2E-BB83-CE6CC07D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334C4-FD8B-4BFA-94BD-56E04A48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79908-2399-454F-94D9-3B5F394A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03A20-827A-4B74-B373-4D887462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A5AF5-8184-41B8-BF23-C9B69ECE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05520-F965-4FA1-B611-0D0DDA86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12594-C9E8-4AA1-B836-7EC6DA78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FC72-239D-416A-AE7B-D5BB3BFA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CB0B0-C8F3-4F1A-9F88-EEC7D4D9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707CD-6318-4B91-9627-DCBC34C2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43C5E-EA3E-4EFB-B9E7-E25819FE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D39AB-DCD0-4B54-B878-43F6499E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D0509-E2E4-4B66-8BC3-B085B1ED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738FE-3459-45EE-B2D9-BBAB777B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B2C18-3F5C-46C1-B2D7-244C1346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CE465-CD6E-48A5-B36A-F5915BDC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59DF5-4D37-43F8-BDD0-94528755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C5C0-95F1-4457-AB38-31D99AD9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BC80-1009-4DA1-A0DB-3C314F81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34D-569D-409B-8C57-CDB8DA75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AEC8-6DBA-434F-8835-616B614E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78A-F650-4BC7-8C2E-B87053A6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425F-8470-42D9-BC4C-4A922B31B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A7A5-7765-45A0-AD18-E2AEDBE0F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DA93-90CA-4427-AF63-F59AED6CB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8542-9AFA-4153-BF10-45676B6FA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psu.edu/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www.construction-institute.org/scriptcontent/Index.cfm" TargetMode="External"/><Relationship Id="rId6" Type="http://schemas.openxmlformats.org/officeDocument/2006/relationships/image" Target="../media/image5.png"/><Relationship Id="rId7" Type="http://schemas.openxmlformats.org/officeDocument/2006/relationships/hyperlink" Target="http://www.pankowfoundation.org/index.htm" TargetMode="External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1"/>
          <p:cNvSpPr/>
          <p:nvPr/>
        </p:nvSpPr>
        <p:spPr>
          <a:xfrm>
            <a:off x="0" y="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ject Execution Planning for Building Information Model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PACE: The Partnership for Achieving Construction Excellence"/>
          <p:cNvPicPr/>
          <p:nvPr/>
        </p:nvPicPr>
        <p:blipFill>
          <a:blip r:embed="rId2"/>
          <a:stretch/>
        </p:blipFill>
        <p:spPr>
          <a:xfrm>
            <a:off x="3400560" y="3505320"/>
            <a:ext cx="4524120" cy="384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Penn State Office of Physical Plan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2514600"/>
            <a:ext cx="2009880" cy="657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CII lo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10280" y="1676520"/>
            <a:ext cx="914400" cy="520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http://www.pankowfoundation.org/images/pankow_site_logo.gif">
            <a:hlinkClick r:id="rId7"/>
          </p:cNvPr>
          <p:cNvPicPr/>
          <p:nvPr/>
        </p:nvPicPr>
        <p:blipFill>
          <a:blip r:embed="rId8"/>
          <a:srcRect l="0" t="0" r="0" b="8522"/>
          <a:stretch/>
        </p:blipFill>
        <p:spPr>
          <a:xfrm>
            <a:off x="6135840" y="228600"/>
            <a:ext cx="1788840" cy="1114560"/>
          </a:xfrm>
          <a:prstGeom prst="rect">
            <a:avLst/>
          </a:prstGeom>
          <a:ln w="0">
            <a:noFill/>
          </a:ln>
        </p:spPr>
      </p:pic>
      <p:sp>
        <p:nvSpPr>
          <p:cNvPr id="214" name="TextBox 6"/>
          <p:cNvSpPr/>
          <p:nvPr/>
        </p:nvSpPr>
        <p:spPr>
          <a:xfrm>
            <a:off x="914400" y="1295280"/>
            <a:ext cx="48006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eting  #8 – April 2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,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76320" y="2057400"/>
            <a:ext cx="4876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buildingSMART Alliance project sponsored b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Charles Pankow Found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nstruction Industry Institute (CI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n State Office of Physical Plant (OP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0" descr="katz_night_LG.jpg"/>
          <p:cNvPicPr/>
          <p:nvPr/>
        </p:nvPicPr>
        <p:blipFill>
          <a:blip r:embed="rId1"/>
          <a:srcRect l="9164" t="915" r="80004" b="0"/>
          <a:stretch/>
        </p:blipFill>
        <p:spPr>
          <a:xfrm>
            <a:off x="76320" y="76320"/>
            <a:ext cx="380880" cy="6705360"/>
          </a:xfrm>
          <a:prstGeom prst="rect">
            <a:avLst/>
          </a:prstGeom>
          <a:ln w="9360">
            <a:solidFill>
              <a:srgbClr val="2326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34" name="Diagram 4" descr=""/>
          <p:cNvPicPr/>
          <p:nvPr/>
        </p:nvPicPr>
        <p:blipFill>
          <a:blip r:embed="rId2"/>
          <a:stretch/>
        </p:blipFill>
        <p:spPr>
          <a:xfrm>
            <a:off x="1627200" y="1871640"/>
            <a:ext cx="6370560" cy="41212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5"/>
          <p:cNvSpPr/>
          <p:nvPr/>
        </p:nvSpPr>
        <p:spPr>
          <a:xfrm>
            <a:off x="533520" y="0"/>
            <a:ext cx="7696080" cy="119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3: Designing the BIM Execution Proc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Windows\System32\config\systemprofile\AppData\Local\Microsoft\Windows\Temporary Internet Files\Content.Outlook\43OTX0YL\BIM_Uses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0" descr="katz_night_LG.jpg"/>
          <p:cNvPicPr/>
          <p:nvPr/>
        </p:nvPicPr>
        <p:blipFill>
          <a:blip r:embed="rId1"/>
          <a:srcRect l="9164" t="915" r="80004" b="0"/>
          <a:stretch/>
        </p:blipFill>
        <p:spPr>
          <a:xfrm>
            <a:off x="76320" y="76320"/>
            <a:ext cx="380880" cy="6705360"/>
          </a:xfrm>
          <a:prstGeom prst="rect">
            <a:avLst/>
          </a:prstGeom>
          <a:ln w="9360">
            <a:solidFill>
              <a:srgbClr val="2326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38" name="Diagram 4" descr=""/>
          <p:cNvPicPr/>
          <p:nvPr/>
        </p:nvPicPr>
        <p:blipFill>
          <a:blip r:embed="rId2"/>
          <a:stretch/>
        </p:blipFill>
        <p:spPr>
          <a:xfrm>
            <a:off x="1627200" y="1871640"/>
            <a:ext cx="6370560" cy="41212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5"/>
          <p:cNvSpPr/>
          <p:nvPr/>
        </p:nvSpPr>
        <p:spPr>
          <a:xfrm>
            <a:off x="533520" y="0"/>
            <a:ext cx="7696080" cy="119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3: Designing the BIM Execution Proc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Windows\System32\config\systemprofile\AppData\Local\Microsoft\Windows\Temporary Internet Files\Content.Outlook\43OTX0YL\BIM_Uses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609480" y="1509840"/>
            <a:ext cx="5029200" cy="5130720"/>
          </a:xfrm>
          <a:prstGeom prst="rect">
            <a:avLst/>
          </a:prstGeom>
          <a:ln w="25560">
            <a:solidFill>
              <a:srgbClr val="da1f28"/>
            </a:solidFill>
            <a:miter/>
          </a:ln>
        </p:spPr>
      </p:pic>
      <p:sp>
        <p:nvSpPr>
          <p:cNvPr id="242" name="Rounded Rectangle 4"/>
          <p:cNvSpPr/>
          <p:nvPr/>
        </p:nvSpPr>
        <p:spPr>
          <a:xfrm>
            <a:off x="2209680" y="3048120"/>
            <a:ext cx="1524240" cy="533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da1f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Develop_4D_Model_All_Phases_3.jpg"/>
          <p:cNvPicPr/>
          <p:nvPr/>
        </p:nvPicPr>
        <p:blipFill>
          <a:blip r:embed="rId1"/>
          <a:srcRect l="-1741" t="0" r="0" b="29233"/>
          <a:stretch/>
        </p:blipFill>
        <p:spPr>
          <a:xfrm>
            <a:off x="-76320" y="1295280"/>
            <a:ext cx="9212400" cy="5410440"/>
          </a:xfrm>
          <a:prstGeom prst="rect">
            <a:avLst/>
          </a:prstGeom>
          <a:ln w="0">
            <a:noFill/>
          </a:ln>
        </p:spPr>
      </p:pic>
      <p:sp>
        <p:nvSpPr>
          <p:cNvPr id="244" name="TextBox 2"/>
          <p:cNvSpPr/>
          <p:nvPr/>
        </p:nvSpPr>
        <p:spPr>
          <a:xfrm>
            <a:off x="533520" y="0"/>
            <a:ext cx="7696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emplate Process Map – 4D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Windows\System32\config\systemprofile\AppData\Local\Microsoft\Windows\Temporary Internet Files\Content.Outlook\43OTX0YL\BIM_Uses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609480" y="1509840"/>
            <a:ext cx="5029200" cy="5130720"/>
          </a:xfrm>
          <a:prstGeom prst="rect">
            <a:avLst/>
          </a:prstGeom>
          <a:ln w="25560">
            <a:solidFill>
              <a:srgbClr val="da1f28"/>
            </a:solidFill>
            <a:miter/>
          </a:ln>
        </p:spPr>
      </p:pic>
      <p:sp>
        <p:nvSpPr>
          <p:cNvPr id="247" name="Rounded Rectangle 4"/>
          <p:cNvSpPr/>
          <p:nvPr/>
        </p:nvSpPr>
        <p:spPr>
          <a:xfrm>
            <a:off x="2209680" y="4267080"/>
            <a:ext cx="152424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da1f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2"/>
          <p:cNvSpPr/>
          <p:nvPr/>
        </p:nvSpPr>
        <p:spPr>
          <a:xfrm>
            <a:off x="533520" y="0"/>
            <a:ext cx="7696080" cy="119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Template Process Map – Design Coordin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ProcessPackage_Generic_DesignCoordination_2009-04-20 0431.jpg"/>
          <p:cNvPicPr/>
          <p:nvPr/>
        </p:nvPicPr>
        <p:blipFill>
          <a:blip r:embed="rId1"/>
          <a:srcRect l="0" t="0" r="0" b="28665"/>
          <a:stretch/>
        </p:blipFill>
        <p:spPr>
          <a:xfrm>
            <a:off x="0" y="1523880"/>
            <a:ext cx="9144000" cy="4724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0" descr="katz_night_LG.jpg"/>
          <p:cNvPicPr/>
          <p:nvPr/>
        </p:nvPicPr>
        <p:blipFill>
          <a:blip r:embed="rId1"/>
          <a:srcRect l="9164" t="915" r="80004" b="0"/>
          <a:stretch/>
        </p:blipFill>
        <p:spPr>
          <a:xfrm>
            <a:off x="76320" y="76320"/>
            <a:ext cx="380880" cy="6705360"/>
          </a:xfrm>
          <a:prstGeom prst="rect">
            <a:avLst/>
          </a:prstGeom>
          <a:ln w="9360">
            <a:solidFill>
              <a:srgbClr val="2326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51" name="Diagram 5" descr=""/>
          <p:cNvPicPr/>
          <p:nvPr/>
        </p:nvPicPr>
        <p:blipFill>
          <a:blip r:embed="rId2"/>
          <a:stretch/>
        </p:blipFill>
        <p:spPr>
          <a:xfrm>
            <a:off x="1627200" y="1871640"/>
            <a:ext cx="6370560" cy="4121280"/>
          </a:xfrm>
          <a:prstGeom prst="rect">
            <a:avLst/>
          </a:prstGeom>
          <a:ln w="0">
            <a:noFill/>
          </a:ln>
        </p:spPr>
      </p:pic>
      <p:sp>
        <p:nvSpPr>
          <p:cNvPr id="252" name="TextBox 4"/>
          <p:cNvSpPr/>
          <p:nvPr/>
        </p:nvSpPr>
        <p:spPr>
          <a:xfrm>
            <a:off x="533520" y="-57240"/>
            <a:ext cx="7696080" cy="119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3: Designing the BIM Execution Proc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C:\Windows\System32\config\systemprofile\AppData\Local\Microsoft\Windows\Temporary Internet Files\Content.Outlook\43OTX0YL\BIM_Uses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609480" y="1509840"/>
            <a:ext cx="5029200" cy="5130720"/>
          </a:xfrm>
          <a:prstGeom prst="rect">
            <a:avLst/>
          </a:prstGeom>
          <a:ln w="25560">
            <a:solidFill>
              <a:srgbClr val="da1f28"/>
            </a:solidFill>
            <a:miter/>
          </a:ln>
        </p:spPr>
      </p:pic>
      <p:sp>
        <p:nvSpPr>
          <p:cNvPr id="255" name="Rounded Rectangle 4"/>
          <p:cNvSpPr/>
          <p:nvPr/>
        </p:nvSpPr>
        <p:spPr>
          <a:xfrm>
            <a:off x="2209680" y="4267080"/>
            <a:ext cx="152424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da1f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2"/>
          <p:cNvSpPr/>
          <p:nvPr/>
        </p:nvSpPr>
        <p:spPr>
          <a:xfrm>
            <a:off x="533520" y="0"/>
            <a:ext cx="7696080" cy="1130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Project Specific Process Map –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Design Coordination (Millennium Science Proj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ProcessPackage_3_projectspecific_millennium_3D MEP Coordination_2009-04-20 0435.jpg"/>
          <p:cNvPicPr/>
          <p:nvPr/>
        </p:nvPicPr>
        <p:blipFill>
          <a:blip r:embed="rId1"/>
          <a:srcRect l="0" t="0" r="0" b="28230"/>
          <a:stretch/>
        </p:blipFill>
        <p:spPr>
          <a:xfrm>
            <a:off x="0" y="1828800"/>
            <a:ext cx="9144000" cy="4019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eam Me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2"/>
          <p:cNvSpPr/>
          <p:nvPr/>
        </p:nvSpPr>
        <p:spPr>
          <a:xfrm>
            <a:off x="533520" y="1219320"/>
            <a:ext cx="815328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Board of Advisor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Deke Smith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Executive Director of buildingSMART Alliance (Industry Champio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Victor Sanvido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h.D., Senior Vice President, Southland Industr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Francois Grobler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h.D., US Army CERL and IAI - North Americ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teve Hagan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Project Knowledge Center, U.S. General Services Administ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oad Kousheshi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resident, AEC Strateg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Ed Gannon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Manager of Design Services, Penn State Office of Physical Pla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Mark Falzarano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Barton Malow Compan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Mark Butl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HD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Derek Cunz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– Director of Project Development, Mortenson Construc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Mark Konchar-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Vice President – Balfour Beatty Construc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CIC Research Program Team Memb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John Messn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Director of the CIC Research Progra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himay Anumba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Professor and Head of Architectural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am Hunter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Assist. Professor of Psycholog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raig Dubl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PhD Student, Architectural Engineering (Constructio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olleen Kasprzak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S Student, Architectural Engineering (Operation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hitwan Saluja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S Student, Architectural Engineering (Planning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Nevena Zikic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S Student, Architectural Engineering (Desig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hane Goodman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BAE/MAE Student, Architectural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Sponsor Representativ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Bob Ten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 Director, The Charles Pankow Foundation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teve Thomas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– Director of Research, The Construction Industry Institut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457200" y="0"/>
            <a:ext cx="84582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4: Creating the BIM Execution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2"/>
          <p:cNvSpPr/>
          <p:nvPr/>
        </p:nvSpPr>
        <p:spPr>
          <a:xfrm>
            <a:off x="533520" y="129528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ject Goals/BIM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IM Process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livery Strategy/Contr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IM Scope Defin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rganizational Roles and Respons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munication Proced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chnology Infrastructure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del Set-up, Organization and Quality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ject Referenc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Box 1"/>
          <p:cNvSpPr/>
          <p:nvPr/>
        </p:nvSpPr>
        <p:spPr>
          <a:xfrm>
            <a:off x="457200" y="0"/>
            <a:ext cx="84582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4: Creating the BIM Execution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3" descr="TOC_COMPARISON.bmp"/>
          <p:cNvPicPr/>
          <p:nvPr/>
        </p:nvPicPr>
        <p:blipFill>
          <a:blip r:embed="rId1"/>
          <a:srcRect l="0" t="3074" r="0" b="2715"/>
          <a:stretch/>
        </p:blipFill>
        <p:spPr>
          <a:xfrm>
            <a:off x="609480" y="1371600"/>
            <a:ext cx="8382240" cy="5315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457200" y="0"/>
            <a:ext cx="84582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4: Creating the BIM Execution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533520" y="129528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ject Goals/BIM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ferences to Chapter 2 – Identify BIM 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M Process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ferences to Chapter 3 – Defining the BIM Execution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.   Delivery Strategy/Con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finition of the Delivery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ferences to AIA IPD and DB contr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M Contractual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otes 5 important issues to address in BIM contr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ferences to multiples AIA and ConsensusDOCS BIM contract attach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457200" y="0"/>
            <a:ext cx="84582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4: Creating the BIM Execution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533520" y="129528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.   BIM Scope defin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ferences to AIA E202, USACE BIM Roadmap and Omniclass Construction Classific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ilding upon AIA E202 to provide a more comprehensive document with gu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ded to CSI Uni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M Deliverables instead of Project Ph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OD (100-500) or project specific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rouping description of model components ad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A removed from doc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1"/>
          <p:cNvSpPr/>
          <p:nvPr/>
        </p:nvSpPr>
        <p:spPr>
          <a:xfrm>
            <a:off x="457200" y="0"/>
            <a:ext cx="84582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4: Creating the BIM Execution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3" descr="Blank_Model_Progression_Requirements.jpg"/>
          <p:cNvPicPr/>
          <p:nvPr/>
        </p:nvPicPr>
        <p:blipFill>
          <a:blip r:embed="rId1"/>
          <a:stretch/>
        </p:blipFill>
        <p:spPr>
          <a:xfrm>
            <a:off x="533520" y="1295280"/>
            <a:ext cx="8610480" cy="5562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457200" y="0"/>
            <a:ext cx="84582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4: Creating the BIM Execution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3" descr="Blank_Model_Progression_Requirements.jpg"/>
          <p:cNvPicPr/>
          <p:nvPr/>
        </p:nvPicPr>
        <p:blipFill>
          <a:blip r:embed="rId1"/>
          <a:srcRect l="0" t="73980" r="52213" b="0"/>
          <a:stretch/>
        </p:blipFill>
        <p:spPr>
          <a:xfrm>
            <a:off x="533520" y="3836880"/>
            <a:ext cx="8153280" cy="2863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Blank_Model_Progression_Requirements.jpg"/>
          <p:cNvPicPr/>
          <p:nvPr/>
        </p:nvPicPr>
        <p:blipFill>
          <a:blip r:embed="rId2"/>
          <a:srcRect l="0" t="0" r="52213" b="78089"/>
          <a:stretch/>
        </p:blipFill>
        <p:spPr>
          <a:xfrm>
            <a:off x="533520" y="1273320"/>
            <a:ext cx="8153280" cy="2415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"/>
          <p:cNvSpPr/>
          <p:nvPr/>
        </p:nvSpPr>
        <p:spPr>
          <a:xfrm>
            <a:off x="457200" y="0"/>
            <a:ext cx="84582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4: Creating the BIM Execution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2"/>
          <p:cNvSpPr/>
          <p:nvPr/>
        </p:nvSpPr>
        <p:spPr>
          <a:xfrm>
            <a:off x="533520" y="129528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5.   Organizational Roles and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M Team composition and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M Manager selection and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munication Proced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lectronic commun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eting commun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ffffff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echnology Infrastructure Nee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General overview of software ty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pecific software and hardware not def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1"/>
          <p:cNvSpPr/>
          <p:nvPr/>
        </p:nvSpPr>
        <p:spPr>
          <a:xfrm>
            <a:off x="457200" y="0"/>
            <a:ext cx="84582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4: Creating the BIM Execution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533520" y="129528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.   Model Set-up, Organization and Quality 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mportant model set-up, organization and quality control top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FC f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ypes of quality che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9.   Project Reference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ritical Project Overview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Key Project Cont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3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iscu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2"/>
          <p:cNvSpPr/>
          <p:nvPr/>
        </p:nvSpPr>
        <p:spPr>
          <a:xfrm>
            <a:off x="609480" y="1371600"/>
            <a:ext cx="83822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ays that you can help u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view  Chapters 1 and 2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mail:  crd137@psu.e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ax:  814-863-478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4288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jects to test drive BIM Execution Plan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5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2"/>
          <p:cNvSpPr/>
          <p:nvPr/>
        </p:nvSpPr>
        <p:spPr>
          <a:xfrm>
            <a:off x="533520" y="1295280"/>
            <a:ext cx="83818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 Meeting Time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3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ference Call Agen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533520" y="1295280"/>
            <a:ext cx="815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odu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ject Goal and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ecution Planning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cussion Chapters 1 and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verview Chapters 3 and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685800" y="1457280"/>
            <a:ext cx="8153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Arial"/>
              </a:rPr>
              <a:t>Many owners and team members are struggling with how to effectively implement the BIM throughout the lifecycle of a building projec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Project Go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533520" y="129528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Develop a guide that will focus on the decisions required to increase the Building Information Modeling process efficiency throughout the stages of a building projec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Co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Arial"/>
              </a:rPr>
              <a:t>Project Deliverab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533520" y="1295280"/>
            <a:ext cx="86104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BIM Execution Planning Gu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Includes guidelines for BIM implementation at various project pha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Posted and distributed through the buildingSMART Allian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BIM Implementation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Spreadsheets, Word Templates, and Process Map Templ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Assist Team Member to make decisions necessary for BIM Use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457200" y="0"/>
            <a:ext cx="76201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ecution Planning Proc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0" descr="katz_night_LG.jpg"/>
          <p:cNvPicPr/>
          <p:nvPr/>
        </p:nvPicPr>
        <p:blipFill>
          <a:blip r:embed="rId1"/>
          <a:srcRect l="9164" t="915" r="80004" b="0"/>
          <a:stretch/>
        </p:blipFill>
        <p:spPr>
          <a:xfrm>
            <a:off x="76320" y="76320"/>
            <a:ext cx="380880" cy="6705360"/>
          </a:xfrm>
          <a:prstGeom prst="rect">
            <a:avLst/>
          </a:prstGeom>
          <a:ln w="9360">
            <a:solidFill>
              <a:srgbClr val="2326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29" name="TextBox 8"/>
          <p:cNvSpPr/>
          <p:nvPr/>
        </p:nvSpPr>
        <p:spPr>
          <a:xfrm>
            <a:off x="533520" y="0"/>
            <a:ext cx="7696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iscussion - Chapters 1 and 2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0" descr="katz_night_LG.jpg"/>
          <p:cNvPicPr/>
          <p:nvPr/>
        </p:nvPicPr>
        <p:blipFill>
          <a:blip r:embed="rId1"/>
          <a:srcRect l="9164" t="915" r="80004" b="0"/>
          <a:stretch/>
        </p:blipFill>
        <p:spPr>
          <a:xfrm>
            <a:off x="76320" y="76320"/>
            <a:ext cx="380880" cy="6705360"/>
          </a:xfrm>
          <a:prstGeom prst="rect">
            <a:avLst/>
          </a:prstGeom>
          <a:ln w="9360">
            <a:solidFill>
              <a:srgbClr val="23263c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31" name="TextBox 8"/>
          <p:cNvSpPr/>
          <p:nvPr/>
        </p:nvSpPr>
        <p:spPr>
          <a:xfrm>
            <a:off x="533520" y="0"/>
            <a:ext cx="7696080" cy="1191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3: Designing the BIM Execution Proc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Diagram 11" descr=""/>
          <p:cNvPicPr/>
          <p:nvPr/>
        </p:nvPicPr>
        <p:blipFill>
          <a:blip r:embed="rId2"/>
          <a:stretch/>
        </p:blipFill>
        <p:spPr>
          <a:xfrm>
            <a:off x="1627200" y="1871640"/>
            <a:ext cx="6370560" cy="4121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11:04Z</dcterms:created>
  <dc:creator>cmk264</dc:creator>
  <dc:description/>
  <dc:language>en-US</dc:language>
  <cp:lastModifiedBy>Windows User</cp:lastModifiedBy>
  <dcterms:modified xsi:type="dcterms:W3CDTF">2009-04-24T15:01:52Z</dcterms:modified>
  <cp:revision>119</cp:revision>
  <dc:subject/>
  <dc:title>Slide 1</dc:title>
</cp:coreProperties>
</file>